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1ABC-5E07-4094-86DC-69F247D4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AE3E-E0A3-4685-87C5-0239BAF1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4E21-5BE6-4803-BFC7-4A6E1D62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21D1-FD09-4C10-8A95-84F6719F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603A-8AD2-4C6C-B768-36BF03E0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6318-5C2A-4648-B87F-6D07A73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1DB0-5CB8-41C6-A044-0429E1A0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918-7704-4E71-A9A2-4856568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D1E2-2B7E-4B1C-BD87-7277E4E4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A5E-773D-4541-BF2F-2DB40B48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06FC-D7F6-4E1E-884A-C083D944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5DB4-8BF2-41FB-8BB0-44485369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A24F-AC43-4F7D-B99A-5ABE46D9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76F7-9021-4924-9BBA-8B1B419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5DEF-BB64-48C7-885C-1A0E9CD5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C4C4-D6B1-4AF4-863E-2C5AA4FC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C821-ACF8-4189-A85D-15D23DA9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5F12-9949-4F83-9B87-D618A3C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6341-CB2F-4351-B12C-701EF2DE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0C5F-8B2E-45DB-8D99-E5C804C9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29AB-E800-4EBC-B58B-0C7C000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37F3-EF42-45D1-B545-4853B17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0D86-393B-44CC-B4BA-7D29D0B7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09A8-2F6D-48D0-9429-82ABF443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11BF-D9A2-4C27-8A93-7AC42DF16CF0}" type="slidenum">
              <a:rPr b="0" lang="hu-H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9F78-F4F2-40A6-8BEB-418C98F96A0F}" type="slidenum">
              <a:rPr b="0" lang="hu-H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telneten.uw.hu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viaszfestes.hu/profitudas/latogato_vacuum/elado_tananyag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z üzletkötés mesterfogásai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(alap 52/13)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lefonos időpont egyeztetés lépései  (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ontaktu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Ki?  honnan?  miért ? (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időpontot adok el</a:t>
            </a: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Ki ? –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goltan, érthetően, hangsúlyosan, nem kapkodva, nyugodta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onnan?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cégnév, tevékenység ( az előbbi lendülette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iért?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– kinek az érdekében ? Kinek jelent hasznot ? Miért kell személyesen ? Mennyi időt vesz igénybe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4360" y="5418000"/>
            <a:ext cx="431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778360"/>
            <a:ext cx="3745080" cy="107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06:22:07Z</dcterms:created>
  <dc:creator>1</dc:creator>
  <dc:description/>
  <dc:language>en-US</dc:language>
  <cp:lastModifiedBy>Tóth Zoltán</cp:lastModifiedBy>
  <dcterms:modified xsi:type="dcterms:W3CDTF">2005-07-02T12:02:41Z</dcterms:modified>
  <cp:revision>44</cp:revision>
  <dc:subject/>
  <dc:title>Az üzletkötés mesterfogásai (alap 52/1)</dc:title>
</cp:coreProperties>
</file>